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21.png" ContentType="image/png"/>
  <Override PartName="/ppt/media/image19.wmf" ContentType="image/x-wmf"/>
  <Override PartName="/ppt/media/image20.png" ContentType="image/png"/>
  <Override PartName="/ppt/media/image18.wmf" ContentType="image/x-wmf"/>
  <Override PartName="/ppt/media/image17.png" ContentType="image/png"/>
  <Override PartName="/ppt/media/image15.png" ContentType="image/png"/>
  <Override PartName="/ppt/media/image29.png" ContentType="image/png"/>
  <Override PartName="/ppt/media/image14.wmf" ContentType="image/x-wmf"/>
  <Override PartName="/ppt/media/image5.png" ContentType="image/png"/>
  <Override PartName="/ppt/media/image35.png" ContentType="image/png"/>
  <Override PartName="/ppt/media/image11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png" ContentType="image/png"/>
  <Override PartName="/ppt/media/image31.png" ContentType="image/png"/>
  <Override PartName="/ppt/media/image37.wmf" ContentType="image/x-wmf"/>
  <Override PartName="/ppt/media/image38.wmf" ContentType="image/x-wmf"/>
  <Override PartName="/ppt/media/image40.png" ContentType="image/png"/>
  <Override PartName="/ppt/media/image39.wmf" ContentType="image/x-wmf"/>
  <Override PartName="/ppt/media/image42.png" ContentType="image/png"/>
  <Override PartName="/ppt/media/image2.png" ContentType="image/png"/>
  <Override PartName="/ppt/media/image32.png" ContentType="image/png"/>
  <Override PartName="/ppt/media/image7.png" ContentType="image/png"/>
  <Override PartName="/ppt/media/image1.jpeg" ContentType="image/jpeg"/>
  <Override PartName="/ppt/media/image43.wmf" ContentType="image/x-wmf"/>
  <Override PartName="/ppt/media/image44.png" ContentType="image/png"/>
  <Override PartName="/ppt/media/image9.png" ContentType="image/png"/>
  <Override PartName="/ppt/media/image13.png" ContentType="image/png"/>
  <Override PartName="/ppt/media/image12.wmf" ContentType="image/x-wmf"/>
  <Override PartName="/ppt/media/image34.png" ContentType="image/png"/>
  <Override PartName="/ppt/media/image4.png" ContentType="image/png"/>
  <Override PartName="/ppt/media/image27.png" ContentType="image/png"/>
  <Override PartName="/ppt/media/image30.wmf" ContentType="image/x-wmf"/>
  <Override PartName="/ppt/media/image41.wmf" ContentType="image/x-wmf"/>
  <Override PartName="/ppt/media/image8.png" ContentType="image/png"/>
  <Override PartName="/ppt/media/image16.wmf" ContentType="image/x-wmf"/>
  <Override PartName="/ppt/media/image33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7423-F2F5-410A-B65E-801EA9DDB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26A9-C13A-4BFD-A2A3-253B95F8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0C5A6-7CEC-46E6-BFA9-5E0A0837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D5932-0A15-452F-AD77-7A139151A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954CF-DB38-44C6-8B97-B2D059768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46CEC-D48B-4A1B-BFB2-C167D3AC4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E48E-F886-4A65-81F3-C3D8E4CAA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E56B4-AB5C-4465-A57E-343CD3C1D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32D1B-FB4B-42A7-8C1A-5AD28D879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8AAED-319F-427A-9A3E-C095A3A15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83F10-B5A9-49AA-9F85-429370627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FF66-29E9-4E0D-8F32-C6B54EE8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0E3E0-5442-4162-A327-746BB75AC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9A359-C7A5-41F8-B7CE-5492ECF65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60147-6844-4AA5-9B97-9DC9F42F8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DF65-B79E-425B-9BDF-6BBD8F2EF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96C36-B56F-418D-8546-9DE88C15F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6DB9-4E2E-4727-A40E-08B4E32C4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50B-303A-4D56-B203-98AEF094C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5B96-8722-49C7-8D99-F2EC81650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A4C4-B36E-453A-AC94-F3C9E0400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9AB3-E10C-4913-AD2E-E39DDF85C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221E6-E508-4AEF-BA5D-67CF31D96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BCF6-71E0-42AD-B998-09E16187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D481-D66D-4CED-8445-4FCEB9072908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E143-A02F-43D0-B01F-B1DA57E30203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hyperlink" Target="http://ctl.byu.edu/helping-students-take-responsibility-for-learning/" TargetMode="External"/><Relationship Id="rId3" Type="http://schemas.openxmlformats.org/officeDocument/2006/relationships/hyperlink" Target="http://ctl.byu.edu/helping-students-take-responsibility-for-learning" TargetMode="External"/><Relationship Id="rId4" Type="http://schemas.openxmlformats.org/officeDocument/2006/relationships/image" Target="../media/image26.wmf"/><Relationship Id="rId5" Type="http://schemas.openxmlformats.org/officeDocument/2006/relationships/hyperlink" Target="http://www.umuc.edu/library/tutorials/research/mod1.shtml" TargetMode="External"/><Relationship Id="rId6" Type="http://schemas.openxmlformats.org/officeDocument/2006/relationships/image" Target="../media/image27.png"/><Relationship Id="rId7" Type="http://schemas.openxmlformats.org/officeDocument/2006/relationships/hyperlink" Target="http://www.youtube.com/watch?v=5NvA4hCOfjU&amp;feature=player_embedded" TargetMode="External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1.png"/><Relationship Id="rId3" Type="http://schemas.openxmlformats.org/officeDocument/2006/relationships/hyperlink" Target="http://tlt.its.psu.edu/suggestions/databases/index.html" TargetMode="External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hyperlink" Target="http://school.discoveryeducation.com/schrockguide/eval.html" TargetMode="External"/><Relationship Id="rId3" Type="http://schemas.openxmlformats.org/officeDocument/2006/relationships/image" Target="../media/image32.png"/><Relationship Id="rId4" Type="http://schemas.openxmlformats.org/officeDocument/2006/relationships/hyperlink" Target="http://lib.nmsu.edu/instruction/evalcrit.html" TargetMode="External"/><Relationship Id="rId5" Type="http://schemas.openxmlformats.org/officeDocument/2006/relationships/image" Target="../media/image32.png"/><Relationship Id="rId6" Type="http://schemas.openxmlformats.org/officeDocument/2006/relationships/hyperlink" Target="http://www.philb.com/fakesites.htm" TargetMode="External"/><Relationship Id="rId7" Type="http://schemas.openxmlformats.org/officeDocument/2006/relationships/image" Target="../media/image32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hyperlink" Target="http://btcelearning.ning.com/video/copyright-101-for-teachers" TargetMode="External"/><Relationship Id="rId3" Type="http://schemas.openxmlformats.org/officeDocument/2006/relationships/image" Target="../media/image34.png"/><Relationship Id="rId4" Type="http://schemas.openxmlformats.org/officeDocument/2006/relationships/hyperlink" Target="http://btcelearning.ning.com/video/disney-copyright-law" TargetMode="External"/><Relationship Id="rId5" Type="http://schemas.openxmlformats.org/officeDocument/2006/relationships/image" Target="../media/image34.png"/><Relationship Id="rId6" Type="http://schemas.openxmlformats.org/officeDocument/2006/relationships/hyperlink" Target="http://www.centerforsocialmedia.org/resources/publications/code_for_media_literacy_education/" TargetMode="External"/><Relationship Id="rId7" Type="http://schemas.openxmlformats.org/officeDocument/2006/relationships/image" Target="../media/image3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21.png"/><Relationship Id="rId3" Type="http://schemas.openxmlformats.org/officeDocument/2006/relationships/image" Target="../media/image41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21.png"/><Relationship Id="rId3" Type="http://schemas.openxmlformats.org/officeDocument/2006/relationships/image" Target="../media/image43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youtube.com/watch?v=XCeaHB1aZVg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lib.ncsu.edu/tutorials/article-databases/" TargetMode="External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www.umsl.edu/services/libteach/keyword.html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lib.ncsu.edu/tutorials/scholarly-articles/" TargetMode="External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hyperlink" Target="http://guides.library.msstate.edu/content.php?pid=38283&amp;sid=287748" TargetMode="External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hyperlink" Target="http://www.pioneerschools.org/pioneer/site/default.asp" TargetMode="External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hyperlink" Target="http://webtrends.about.com/od/office20/tp/free-online-databases-office20.htm" TargetMode="External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h226.lskysd.ca/pd/home" TargetMode="External"/><Relationship Id="rId3" Type="http://schemas.openxmlformats.org/officeDocument/2006/relationships/image" Target="../media/image18.wmf"/><Relationship Id="rId4" Type="http://schemas.openxmlformats.org/officeDocument/2006/relationships/hyperlink" Target="http://library.raritanval.edu/infolit1/obj4/sources.asp" TargetMode="External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Title 1" descr=""/>
          <p:cNvPicPr/>
          <p:nvPr/>
        </p:nvPicPr>
        <p:blipFill>
          <a:blip r:embed="rId1"/>
          <a:stretch/>
        </p:blipFill>
        <p:spPr>
          <a:xfrm>
            <a:off x="414360" y="1042920"/>
            <a:ext cx="8242200" cy="23655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Time management and Engagemen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38120" y="268200"/>
            <a:ext cx="8371080" cy="11588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" descr="C:\Documents and Settings\maryann hebert\Local Settings\Temporary Internet Files\Content.IE5\NCE3ZT9Q\MCj03357330000[1].wmf"/>
          <p:cNvPicPr/>
          <p:nvPr/>
        </p:nvPicPr>
        <p:blipFill>
          <a:blip r:embed="rId3"/>
          <a:stretch/>
        </p:blipFill>
        <p:spPr>
          <a:xfrm>
            <a:off x="2765520" y="1830240"/>
            <a:ext cx="3612960" cy="319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C:\Documents and Settings\maryann hebert\Local Settings\Temporary Internet Files\Content.IE5\G0VIB63V\MCj01302530000[1].wmf"/>
          <p:cNvPicPr/>
          <p:nvPr/>
        </p:nvPicPr>
        <p:blipFill>
          <a:blip r:embed="rId2"/>
          <a:stretch/>
        </p:blipFill>
        <p:spPr>
          <a:xfrm>
            <a:off x="2236680" y="1960560"/>
            <a:ext cx="4670640" cy="39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6" name="Picture 4" descr="C:\Documents and Settings\maryann hebert\Local Settings\Temporary Internet Files\Content.IE5\4FTK0XJ4\MCj04404240000[1].wm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33520" y="2286000"/>
            <a:ext cx="1827000" cy="150660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5" descr="C:\Documents and Settings\maryann hebert\Local Settings\Temporary Internet Files\Content.IE5\G0VIB63V\MCj04326570000[1].pn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714840" y="2571840"/>
            <a:ext cx="1714320" cy="1714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C:\Documents and Settings\maryann hebert\Local Settings\Temporary Internet Files\Content.IE5\A9GC4PE6\MCj03974820000[1].wmf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6324480" y="4343400"/>
            <a:ext cx="1825920" cy="171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4" descr="C:\Documents and Settings\maryann hebert\Local Settings\Temporary Internet Files\Content.IE5\4FTK0XJ4\MCj04419020000[1].wmf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11680" y="2530440"/>
            <a:ext cx="1520640" cy="17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394840" cy="22557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4" name="Picture 5" descr="C:\Documents and Settings\maryann hebert\Local Settings\Temporary Internet Files\Content.IE5\NCE3ZT9Q\MCj04415100000[1]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248520" y="3276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C:\Documents and Settings\maryann hebert\Local Settings\Temporary Internet Files\Content.IE5\NCE3ZT9Q\MCj04415100000[1]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0" y="213372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" descr="C:\Documents and Settings\maryann hebert\Local Settings\Temporary Internet Files\Content.IE5\NCE3ZT9Q\MCj04415100000[1]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3048120" y="46483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Title 1" descr=""/>
          <p:cNvPicPr/>
          <p:nvPr/>
        </p:nvPicPr>
        <p:blipFill>
          <a:blip r:embed="rId1"/>
          <a:stretch/>
        </p:blipFill>
        <p:spPr>
          <a:xfrm>
            <a:off x="450720" y="201600"/>
            <a:ext cx="8242560" cy="12556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9" name="Picture 4" descr="C:\Documents and Settings\maryann hebert\Local Settings\Temporary Internet Files\Content.IE5\4FTK0XJ4\MCj04414950000[1]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743200" y="17524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5" descr="C:\Documents and Settings\maryann hebert\Local Settings\Temporary Internet Files\Content.IE5\4FTK0XJ4\MCj04414950000[1].pn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56272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C:\Documents and Settings\maryann hebert\Local Settings\Temporary Internet Files\Content.IE5\4FTK0XJ4\MCj04414950000[1].png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362320" y="4419720"/>
            <a:ext cx="182880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34" name="Picture 4" descr="C:\Documents and Settings\maryann hebert\Local Settings\Temporary Internet Files\Content.IE5\NCE3ZT9Q\MCj04110450000[1].wmf"/>
          <p:cNvPicPr/>
          <p:nvPr/>
        </p:nvPicPr>
        <p:blipFill>
          <a:blip r:embed="rId2"/>
          <a:stretch/>
        </p:blipFill>
        <p:spPr>
          <a:xfrm>
            <a:off x="762120" y="1523880"/>
            <a:ext cx="2057400" cy="20494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Program Files\Microsoft Office\MEDIA\CAGCAT10\j0251301.wmf"/>
          <p:cNvPicPr/>
          <p:nvPr/>
        </p:nvPicPr>
        <p:blipFill>
          <a:blip r:embed="rId3"/>
          <a:stretch/>
        </p:blipFill>
        <p:spPr>
          <a:xfrm>
            <a:off x="4572000" y="1523880"/>
            <a:ext cx="1827360" cy="1540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C:\Documents and Settings\maryann hebert\Local Settings\Temporary Internet Files\Content.IE5\G0VIB63V\MCj02371980000[1].wmf"/>
          <p:cNvPicPr/>
          <p:nvPr/>
        </p:nvPicPr>
        <p:blipFill>
          <a:blip r:embed="rId4"/>
          <a:stretch/>
        </p:blipFill>
        <p:spPr>
          <a:xfrm>
            <a:off x="1143000" y="3733920"/>
            <a:ext cx="1814400" cy="2547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7" descr="C:\Documents and Settings\maryann hebert\Local Settings\Temporary Internet Files\Content.IE5\A9GC4PE6\MCj01495090000[1].wmf"/>
          <p:cNvPicPr/>
          <p:nvPr/>
        </p:nvPicPr>
        <p:blipFill>
          <a:blip r:embed="rId5"/>
          <a:stretch/>
        </p:blipFill>
        <p:spPr>
          <a:xfrm>
            <a:off x="6248520" y="3429000"/>
            <a:ext cx="1935000" cy="29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C:\Documents and Settings\maryann hebert\Local Settings\Temporary Internet Files\Content.IE5\4FTK0XJ4\MCj04098990000[1].wmf"/>
          <p:cNvPicPr/>
          <p:nvPr/>
        </p:nvPicPr>
        <p:blipFill>
          <a:blip r:embed="rId3"/>
          <a:stretch/>
        </p:blipFill>
        <p:spPr>
          <a:xfrm>
            <a:off x="3649680" y="2637000"/>
            <a:ext cx="1844640" cy="158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Title 1" descr=""/>
          <p:cNvPicPr/>
          <p:nvPr/>
        </p:nvPicPr>
        <p:blipFill>
          <a:blip r:embed="rId1"/>
          <a:stretch/>
        </p:blipFill>
        <p:spPr>
          <a:xfrm>
            <a:off x="384120" y="268200"/>
            <a:ext cx="8534520" cy="1158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57200" y="1599840"/>
            <a:ext cx="8229600" cy="4708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C:\Documents and Settings\maryann hebert\Local Settings\Temporary Internet Files\Content.IE5\G0VIB63V\MCj04371070000[1].wmf"/>
          <p:cNvPicPr/>
          <p:nvPr/>
        </p:nvPicPr>
        <p:blipFill>
          <a:blip r:embed="rId3"/>
          <a:stretch/>
        </p:blipFill>
        <p:spPr>
          <a:xfrm>
            <a:off x="2755800" y="1604880"/>
            <a:ext cx="36324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 algn="ctr"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lbertus Medium"/>
              </a:rPr>
              <a:t>Student Book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 algn="ctr">
              <a:lnSpc>
                <a:spcPct val="100000"/>
              </a:lnSpc>
              <a:spcBef>
                <a:spcPts val="10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lbertus Medium"/>
              </a:rPr>
              <a:t>Trailers</a:t>
            </a:r>
            <a:endParaRPr b="0" lang="en-US" sz="4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Picture 3" descr="Physical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328920" y="2041560"/>
            <a:ext cx="2608200" cy="35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0" y="16761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http://caboces.org/iss/resources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Title 1" descr=""/>
          <p:cNvPicPr/>
          <p:nvPr/>
        </p:nvPicPr>
        <p:blipFill>
          <a:blip r:embed="rId1"/>
          <a:stretch/>
        </p:blipFill>
        <p:spPr>
          <a:xfrm>
            <a:off x="298440" y="268200"/>
            <a:ext cx="8632800" cy="11588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Picture 4" descr="C:\Documents and Settings\maryann hebert\Local Settings\Temporary Internet Files\Content.IE5\4FTK0XJ4\MCj04419380000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657600" y="2895480"/>
            <a:ext cx="148284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457200" y="4114800"/>
            <a:ext cx="8229600" cy="219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2" name="Picture 4" descr="C:\Documents and Settings\maryann hebert\Local Settings\Temporary Internet Files\Content.IE5\4FTK0XJ4\MCj04352440000[1].pn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514600" y="1981080"/>
            <a:ext cx="41911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Picture 4" descr="C:\Documents and Settings\maryann hebert\Local Settings\Temporary Internet Files\Content.IE5\NCE3ZT9Q\MCj02307840000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46480" y="1700280"/>
            <a:ext cx="265104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380880" y="15238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8" name="Picture 4" descr="C:\Documents and Settings\maryann hebert\Local Settings\Temporary Internet Files\Content.IE5\NCE3ZT9Q\MCj02151940000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2133720"/>
            <a:ext cx="54104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412120" cy="14396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304920" y="15238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1" name="Picture 4" descr="C:\Program Files\Microsoft Office\MEDIA\CAGCAT10\j0217698.wmf">
            <a:hlinkClick r:id="rId2"/>
          </p:cNvPr>
          <p:cNvPicPr/>
          <p:nvPr/>
        </p:nvPicPr>
        <p:blipFill>
          <a:blip r:embed="rId3"/>
          <a:stretch/>
        </p:blipFill>
        <p:spPr>
          <a:xfrm rot="556800">
            <a:off x="3749400" y="2793600"/>
            <a:ext cx="1746000" cy="221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itle 1" descr=""/>
          <p:cNvPicPr/>
          <p:nvPr/>
        </p:nvPicPr>
        <p:blipFill>
          <a:blip r:embed="rId1"/>
          <a:stretch/>
        </p:blipFill>
        <p:spPr>
          <a:xfrm>
            <a:off x="334800" y="268200"/>
            <a:ext cx="8577360" cy="11588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Picture 4" descr="C:\Documents and Settings\maryann hebert\Local Settings\Temporary Internet Files\Content.IE5\4FTK0XJ4\MCj04404540000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865680" y="2514600"/>
            <a:ext cx="141264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7" name="Picture 4" descr="C:\Documents and Settings\maryann hebert\Local Settings\Temporary Internet Files\Content.IE5\NCE3ZT9Q\MCED00045_0000[1].wmf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828800" y="2133720"/>
            <a:ext cx="1962000" cy="14428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C:\Documents and Settings\maryann hebert\Local Settings\Temporary Internet Files\Content.IE5\NCE3ZT9Q\MCj02332990000[1].wmf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5943600" y="3200400"/>
            <a:ext cx="26067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4T12:09:50Z</dcterms:created>
  <dc:creator>MaryAnn Hebert</dc:creator>
  <dc:description/>
  <dc:language>en-US</dc:language>
  <cp:lastModifiedBy>MaryAnn Hebert</cp:lastModifiedBy>
  <dcterms:modified xsi:type="dcterms:W3CDTF">2009-10-01T14:38:07Z</dcterms:modified>
  <cp:revision>88</cp:revision>
  <dc:subject/>
  <dc:title>Databases and the librarian  in the 21st Century</dc:title>
</cp:coreProperties>
</file>